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781680" cy="992664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616">
                <a:moveTo>
                  <a:pt x="5" y="0"/>
                </a:moveTo>
                <a:arcTo wR="5" hR="5" stAng="16200000" swAng="-5400000"/>
                <a:lnTo>
                  <a:pt x="0" y="31611"/>
                </a:lnTo>
                <a:arcTo wR="5" hR="5" stAng="10800000" swAng="-5400000"/>
                <a:lnTo>
                  <a:pt x="21595" y="316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781680" cy="992808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783480" cy="992988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618">
                <a:moveTo>
                  <a:pt x="5" y="0"/>
                </a:moveTo>
                <a:arcTo wR="5" hR="5" stAng="16200000" swAng="-5400000"/>
                <a:lnTo>
                  <a:pt x="0" y="31613"/>
                </a:lnTo>
                <a:arcTo wR="5" hR="5" stAng="10800000" swAng="-5400000"/>
                <a:lnTo>
                  <a:pt x="21595" y="3161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7360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62120"/>
            <a:ext cx="49622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7160" bIns="4716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0240" y="4723920"/>
            <a:ext cx="4944960" cy="4498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7360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AC758-C157-411D-9675-03C3FB0DC0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328F6-9BAA-4F26-838A-077F5DE74A4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55C34-BBB3-4EE3-8C39-76F8F87CB99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mailto:Jean-Fran&#231;ois.Baschet@agriculture.gouv.fr" TargetMode="External"/><Relationship Id="rId4" Type="http://schemas.openxmlformats.org/officeDocument/2006/relationships/hyperlink" Target="mailto:Sylvain.Chabe-Ferret@cemagrefs.fr" TargetMode="External"/><Relationship Id="rId5" Type="http://schemas.openxmlformats.org/officeDocument/2006/relationships/hyperlink" Target="mailto:Sylvain.Chabe-Ferret@cemagrefs.fr" TargetMode="External"/><Relationship Id="rId6" Type="http://schemas.openxmlformats.org/officeDocument/2006/relationships/hyperlink" Target="mailto:Sylvain.Chabe-Ferret@cemagrefs.fr" TargetMode="External"/><Relationship Id="rId7" Type="http://schemas.openxmlformats.org/officeDocument/2006/relationships/hyperlink" Target="mailto:Julie.Subervie@supagrao.inra.fr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4172760"/>
            <a:ext cx="86868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779a"/>
                </a:solidFill>
                <a:latin typeface="Arial"/>
              </a:rPr>
              <a:t>Estimation des effets propres des mesures agroenvironnementales du PDRN 2000-2006 sur les pratiques des agricul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779a"/>
                </a:solidFill>
                <a:latin typeface="Arial"/>
              </a:rPr>
              <a:t>Jean-François BASCHET (MAAP-SSP-C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79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Expert Committee on Evaluation of Rural Development Programmes</a:t>
            </a:r>
            <a:br>
              <a:rPr sz="1800"/>
            </a:b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Fourth meeting – 15</a:t>
            </a:r>
            <a:r>
              <a:rPr b="1" lang="en-US" sz="1800" spc="-1" strike="noStrike" baseline="30000">
                <a:solidFill>
                  <a:srgbClr val="00779a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3706920" y="1600200"/>
            <a:ext cx="17287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1219320"/>
            <a:ext cx="8001000" cy="49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iversification des cul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significatif sur le nombre de cul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faible sur la part de la SAU occupée par la culture dominante et sur l’indice de divers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ous-estimé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Implantation de CIPA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ultures intermédiaires pièges à nitrat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l’effet est une différence de 10 ha par exploitation bénéfic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 de 6 ha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de 4 ha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griculture biologique (AB)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: la quasi-totalité de l’accroissement de superficie en AB entre 2000 et 2005 est due à la MAE conversion à l’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1219320"/>
            <a:ext cx="80010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e fertilis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lus favorable sur le solde du bilan azo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de la protection phyto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’utilisation de pesticides (indicateur de fréquence de traite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extensive des prairie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mesures (“de masse”) difficiles à éval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nul sur part de la STH dans la S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ositif sur STH et SAU en niv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aisse forte de la SAU chez les jumeaux non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Mesures “de masse” : trop peu de jumeaux + probabilité “d’effets de diffusion”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pratiques des non-bénéficiaires influencés par la politique mise en place)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1219320"/>
            <a:ext cx="8001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seignements ti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lourds, plus longs que prévu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s d’appariement des fichi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et temps de calcu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esures difficiles à évaluer pour 2 raisons oppo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Trop peu de bénéficiaires : précision faible (enquêtes par sondage pour les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“Trop” de bénéficiaires pour les mesures “de masse” : insuffisance de jumeaux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difficilement à la portée d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 d’obtention des fichier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à mener les travaux : compétences requises, temps, capacité de calc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pouvant être très utiles, à mener par Services administratifs (évaluation et statistique) + Institut de recherche, en parallèle aux travaux conduits par l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1219320"/>
            <a:ext cx="800100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Faciliter les appariements (identifiant unique : No SIRET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prévu pour FSS 2010 (les questions sur le bénéfice des aides du RD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tilisation des enquêtes pratiques culturales 2011 à 2013 et amélioration de la précision 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“sur-échantilloner” les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Étudier la possibilité de mise en œuvre de “méthodes expérimenta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garantir,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 priori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, l’existence de bénéficiaires et de non bénéficiair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1219320"/>
            <a:ext cx="800100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Jean-François.Baschet@agriculture.gouv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ylvain.Chabe-Ferret@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magref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Julie.Subervie@supagrao.inra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1447920"/>
            <a:ext cx="800100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an de la pré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exte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ux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seignements tir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1447920"/>
            <a:ext cx="8001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1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es MAE : 34 % des dépenses publiques du PDR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3,4 milliards € sur 7 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 catalogue de types d’actions dans le PDRN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5 grands types (01 à 25) déclinés en environ 150 actions élémentaires (code à 4 chiffres + 1 lett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ise en oeuvre des actions par des disposi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 C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s territoriaux d’exploitation), unique dispositif de dé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E Rotationnel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à partir d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A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prime herbagère agroenvironnementa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 d’agriculture durab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1219320"/>
            <a:ext cx="800100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5 actions sur 150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80 % des dépens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Actions 19 et 20 (MAE “herbagèr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s 08 (MAE “phytosanitaires”) et 09 (MAE “fertilisation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 21 (MAE conversion à l’agriculture biolog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nviron le tiers des exploitations professionnelles avec MAE :                    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50 000 CTE, 25 000 CAD, 55 000 PHAE, 7 000 Rot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superficie totale contractualisée de 9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“développée”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 et une superficie “nette” de 7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sans double comptes)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it 25 % de la SAU franç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“Un zapping dans les dispositifs”, mais une grande constance entre les trois péri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1993-1999, 2000-2006, 2007-2013) : environ 2/3 des dépenses pour le soutien à la gestion extensive de l’he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219320"/>
            <a:ext cx="800100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es réalisations relativement importantes mais beaucoup d’interrogations quant aux effets réels sur les pratiques et sur l’état de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a question des effets : au cœur de l’évaluation ex-post à conduire en 2007-08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et des futures évaluations ex-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épasser les comparaisons intuitives habituel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énéficiaires / non bénéficiaires : biais de sé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vant / après : biais tempo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dapter les méthodes économétriques utilisées pour l’évaluation de certains programmes sociaux : aux USA, en 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1219320"/>
            <a:ext cx="8001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2 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étude confiée au CEMAGREF en 2 ph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étence en matière d’indicateurs agroenvironn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ptitude à mettre en oeuvre les méthodes économétr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ère phase (mi 2007 - mi 2008) –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Financement Ministère de l’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xpertise sur les indicateurs à utiliser pour l’estimation des effets : de résultats (pratiques agricoles) – d’impacts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aisabilité d’utilisation des méthodes de ma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ème phase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mi 2008 – fin 2009) : Mise en oeuvre de ces méth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appui à des travaux de recherche, dans le cadre de l’évaluation in-itin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inancement conjoint Ministère de l’agriculture – Ministère de l’éc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Séminaire de restitution : 14 janvier 2010 (80 personnes : évaluateurs, administrations gestionnaires, statisticiens agricole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1219320"/>
            <a:ext cx="8001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stimation des effets sur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atiques agrico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indicateurs de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lexité des liens entre pratiques agricoles et état de l’environnement + la question du te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robustesse statistique plus grande pour les indicateurs de résultats (pratiques agricoles)  que pour les indicateurs d’impact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Reconstitution,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 posterior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de pratiques “contrefactuel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lles de non-bénéficiaires présentant, en moyenne, avant la mise en place de la politique, les mêmes caractéristiques observées que les bénéficiaires (“jumeaux statistiqu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520" y="1219320"/>
            <a:ext cx="800100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différentes méthodes de comparaison et leurs li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simple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mparaison des pratiques entre bénéficiaires et non bénéficiaires “jumeaux “ (ou “matchés”), la même année, en fin d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en double différenc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ractéristiques inobservées différentes influençant les pratiques (habileté managériale, “sensibilité” environnementale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rrection de la comparaison bénéficiaires / jumeaux par la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différence de pratiques avant la mise en place de la pol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Pour identifier les non bénéficiaires matché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tilisation du score de propension (probabilité d’obtention d’une MAE prédite sur la base des caractéristiques observé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1219320"/>
            <a:ext cx="80010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truction d’une base de données, par appariement de fichiers statistiques et de fichiers administra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s caractéristiques observées avant le lancement du dispositif (les variables de contrôle)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ecensement agricole 2000 (FSS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statut de bénéficiaire ou non bénéficiaire du dispositif et le type de MAE (la variable de participation)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: Fichiers administratifs des organismes pay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niveau de pratiques après et avant (dans la mesure du possible) le lancement du dispositif (les variables de résultats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Enquête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es pratiques culturales grandes cultures 2001 et 2006 (gestion d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la fertilisation et de l’utilisation des produits phytosanit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a structure des exploitations agricoles (FSS 2000 et 2005)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diversité de l’assolement, chargement, part de la SAU en prairies, surfaces en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IPAN, linéaire de bandes enherbée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01</cp:lastModifiedBy>
  <dcterms:modified xsi:type="dcterms:W3CDTF">2010-03-10T13:18:27Z</dcterms:modified>
  <cp:revision>108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8965669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